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C84-7AD2-4C5A-AEE7-9ABE828D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B99-F48B-419E-97D8-27CF708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0C1-B2FD-49B0-BB3F-255C834A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6BC-1970-4C5E-9BB2-E843A7A6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703-4D66-44FF-B185-2A5AB74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2A3-FFF2-450D-817A-0A3FEA25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16A-098D-4D18-B99C-81F0D670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CB5-02DA-49A3-AE0C-C8BF68F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BCB-90A9-4C62-953B-2C3BF00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D53-B7E9-485A-B991-EE45EDE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E7A-1BA4-4226-9530-377C336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F39-7DB6-4F52-98FD-7FC05F2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5F10-DF94-4901-931A-678D4FFBB8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7D98-F201-4BE2-88C0-FFD8085BA31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600" spc="-1" strike="noStrike">
                <a:solidFill>
                  <a:srgbClr val="10253f"/>
                </a:solidFill>
                <a:latin typeface="Calibri"/>
              </a:rPr>
              <a:t>KIJIJI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roup 2: Takeshwar Rai, Brett Payne, Cindy Wong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Jessie Gwynne, Michelle Mah</a:t>
            </a:r>
            <a:r>
              <a:rPr b="0" lang="en-CA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331720"/>
            <a:ext cx="32004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828440"/>
            <a:ext cx="3809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3400" y="20570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2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bbq.jpg"/>
          <p:cNvPicPr/>
          <p:nvPr/>
        </p:nvPicPr>
        <p:blipFill>
          <a:blip r:embed="rId1"/>
          <a:stretch/>
        </p:blipFill>
        <p:spPr>
          <a:xfrm>
            <a:off x="5791320" y="1620720"/>
            <a:ext cx="2504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2209320"/>
            <a:ext cx="5867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vs.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balance-scale.jpg"/>
          <p:cNvPicPr/>
          <p:nvPr/>
        </p:nvPicPr>
        <p:blipFill>
          <a:blip r:embed="rId1"/>
          <a:stretch/>
        </p:blipFill>
        <p:spPr>
          <a:xfrm>
            <a:off x="6019920" y="4572000"/>
            <a:ext cx="22096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3360" y="25146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14:18Z</dcterms:modified>
  <cp:revision>14</cp:revision>
  <dc:subject/>
  <dc:title>KIJIJI</dc:title>
</cp:coreProperties>
</file>